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B51-CD34-4D27-BE72-E6CE19C3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785-34BB-48CB-8F8D-B82348CF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EA5-3CF5-460D-9AEC-742B7CF5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716-79F7-44ED-9E9F-1256155E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4D5-2B5F-46C9-9C4C-93926DA6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CA9-9C8F-4F9D-ADD6-7071A5FB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4AD-B7D4-4084-9FA4-4FC3256A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2D0-8666-488D-84D8-9C2F4DA9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C69-16A5-4517-AE3F-F682F43F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D8E-91DF-4042-B370-4921A51A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71E-CF75-443C-B420-94EA4F72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A40-AABB-4A7E-ADCC-DD4A69BE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15D8-BB47-43FB-A167-E4E2758BE9C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6:47:19Z</dcterms:created>
  <dc:creator>LAMISS UQAM</dc:creator>
  <dc:description/>
  <cp:keywords/>
  <dc:language>en-US</dc:language>
  <cp:lastModifiedBy>LAMISS UQAM</cp:lastModifiedBy>
  <dcterms:modified xsi:type="dcterms:W3CDTF">2010-04-12T16:52:04Z</dcterms:modified>
  <cp:revision>1</cp:revision>
  <dc:subject/>
  <dc:title>Présentation PowerPoint</dc:title>
</cp:coreProperties>
</file>